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7.png" ContentType="image/png"/>
  <Override PartName="/ppt/media/image40.png" ContentType="image/png"/>
  <Override PartName="/ppt/media/image30.png" ContentType="image/png"/>
  <Override PartName="/ppt/media/image42.png" ContentType="image/png"/>
  <Override PartName="/ppt/media/image43.wmf" ContentType="image/x-wmf"/>
  <Override PartName="/ppt/media/image6.jpeg" ContentType="image/jpeg"/>
  <Override PartName="/ppt/media/image18.png" ContentType="image/png"/>
  <Override PartName="/ppt/media/image20.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move the slide</a:t>
            </a:r>
            <a:endParaRPr b="1" lang="en-US" sz="4100" spc="-1" strike="noStrike">
              <a:solidFill>
                <a:srgbClr val="000000"/>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0958-0D3D-4E8F-8E46-D5CCD34FE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4752-F2FB-49E3-8A75-8EE285032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6432-F2BC-4516-AE3A-F256E4B8E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C872-792A-4494-B0A7-B7F0B2459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31C9-B260-4C0C-B9D9-9902F6D46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DA61-54FB-451D-92B3-613723F54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A912-4B53-4B74-8BB4-7AF1F3861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F35A-C67A-4207-A13B-8C7382192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C624-A100-433E-B0C2-51129F654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9993-550F-4070-AD8F-EE19320F0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1EDB-47D3-41DA-BA2F-9D869E355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CF5A-9885-4AF8-ADC7-162138291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181F-B67E-42B1-B4DE-17433452C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D3CA-D665-4A4F-9BA4-77B98619F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28C8-B81E-4CB8-BB05-BA4D5EA1F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96FC-2C1F-4738-BADD-6F8D65819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2179-3642-4848-9020-F2C90F11E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798B-96E5-4B33-A73C-B8D3E9E8B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313F-0E0F-44A2-BE07-75468C034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3D9A-B628-48A3-80BF-8FE349170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202D-9D12-4141-8596-CCBDBE8AF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793B-8557-49F4-92C0-7C25D8197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435A-E2DA-41F5-A0B9-FE2BAE410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0FE7-273C-4A5F-8EF7-FA652B5C6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04F5-7CE9-43E2-9BEB-F32359C83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0C09-62FE-42F3-AABC-B5CC7E2BE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D4D0-58FB-459B-9579-2EBE5A25A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EDDD-F271-4C9D-9156-431D4F373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2FF9-B833-46B1-ABA3-76076F377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90A1-8DCF-45DB-A5CF-5914EB5CD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6733-5DE4-4BB4-A7E8-22F89E773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A43F-6D10-4983-B28F-FBE186C8D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A482-2E4F-44A3-8270-8F4A92E70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0DCD-75EF-4F6F-9ABF-2CBF044D5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21175-2CD8-4D67-AF40-B81653C15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C79BC-7E77-4176-B142-6F40ECF30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2692C-2BE9-4754-8D66-C8EA22270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911FF-EEC0-435D-A4AF-550F1401D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AD626-7DA4-461E-B42F-A29112F5D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B614D-4458-441B-B033-F23CF9BD9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8D80B-3387-4DF0-BF2B-DC2455B32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2F2E5-4CA2-4B83-A8BB-9C863F724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97B09-7012-447E-9B78-77BFCB3DA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7B52C-4CCB-472F-A467-B8EA279C4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3DFB0-6F45-4D93-8A30-5ECDC7A0F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41467-AF68-47CC-984A-CD99A9B9D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E03EE-0C0A-4585-9E6E-55720890E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F7050-537C-4787-9C13-2324E98E3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7CDB8-EE3C-42F2-81BA-DA69D8A77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F6581-44CC-4D69-B960-74A355683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C8DB1-EFFC-427C-B1D2-3C8E563F9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CDD61E-F357-45FC-B9CF-5519526DF7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86D5AD-0B62-41B0-88C8-DA6DFD4B7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394CF1-8C17-4A7C-B1ED-81DB2EDD4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3EF46-A37C-46D7-A0EA-17B83525B5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366866-7CAA-4D4E-9934-7FE628FC4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A9B16-E072-4F02-927D-A89A26D07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C442E-76C7-4EDF-9F10-7272DB5C86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061597-D77D-4647-849D-821D9CBAD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090BC-E560-42F3-8356-BE948C542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174D5-E5BB-455A-9A14-F4BD38427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067CD-42F1-4E78-BEEB-A4CD7C09C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3A1EA2-327C-4EBB-830B-6039E116CB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90A1B4-81B0-4C32-8F6B-AD95167BDB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9EC89E-6BF6-4E61-B60F-75F935657A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DCFAD0-7FFC-478F-A028-D65A7D89E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16EF1-9A2E-4BCA-BFAC-BE530F0A2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A7A9-2B7A-4957-AB3C-80D670A69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4BDD4-B4AA-484B-BD07-BBB727AD7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C1908-D307-4A1A-A646-57AD19B57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EE495-4613-415E-AD2A-E0745FF3B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9F5BE-15D0-4DF5-8290-B53F3AC99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E9446-9A86-445E-BCBA-9340339E7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E5CDA-13F6-4A6E-8DDA-5AA232700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3B995-6D07-49E4-87D7-D25FD0A89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B7F38B-C591-4EE9-9123-76181C749E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8B73FC-057B-4EFE-B8D1-63A9602869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7E5288-5FDD-4B92-8464-8F7B962CA0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E1E1-4D52-41A9-B272-86F9477DE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F07FF1-E1FC-443F-AAEA-A6A1A48EB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67FFD-416B-432E-A2B3-5A1BC1289B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E4220E-AABD-40F9-9C08-FA140FFA9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75B64-194F-44B7-93B9-66CE65DD1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768FD-D713-40AF-BFC8-8B128C94E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1B4C6-A148-47E3-BB31-32BA02F0E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F2E5B-7A5C-45AB-AFE0-72952742C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C45D8-4A43-4FA5-96BD-7DB517C5E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19DC75-1804-4B7F-A968-C8DEA396A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7354F1-F1EA-4589-B8FC-382D7C2C7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4985C-0524-4EAC-8567-B78A94B23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5F3EB-72F7-4193-8388-F8B7CBD243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8DC383-9F6E-4153-91BA-36E227E7E3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A8AF81-5754-4202-A665-45E6067EF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08BBC4-A4FF-43D5-8417-0FAFD9249C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71A4EF-47C3-4D4F-9DCB-F697E1F45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BE6883-F675-42B1-A251-EB3B3739C2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ABE6D-E5E2-4432-8D2D-0CA9D9BF17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803FD-26BF-4A3A-83FC-C25B8F3BC3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B1802-9AC2-4573-B41A-CB15CC8D8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8448A-86D3-4F4D-9EEE-905C3DD6B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BE1F-11D4-4CDD-B1CD-BC76C4E1C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917EAF-D51C-4D15-9344-8D4BF540F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AD2522-1810-410A-ADAF-02116E4F86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872C64-E81A-41E0-94DF-3E3A6218AC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6C12E4-C1B5-4152-A080-AA4FC9EF33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25A372-410D-4960-8FC4-66F3889747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03B7D0-63F2-4A10-B332-E30245095D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6FE049-D150-4FF0-843B-EA676D3A3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1A2C4-4781-4710-B5EB-3E15A6B9FE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95034B-2B93-4935-8C0F-EB0B3AB266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BB9D9-C44D-4F9F-8136-D5B30BDF3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DF656-1069-4CF3-961E-0FD6C3903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CA1F7-9FB4-4164-8548-ACF826716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50121E-3689-412A-8FC2-B005F179F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8815E3-56B5-4F71-9A96-416D213FB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BCC450-980B-42DC-995A-E0788BE15F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CE7D48-4A2E-4A9E-8230-D2C65166F3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51EEFF-B673-4352-B2A8-D86A869FF3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04564E-C731-4187-B5AB-545565E203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BA2B02-F975-407F-B206-2C2016E784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2F0DF-65E4-44C2-A4FF-72A037A1C8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2CFB59-3A39-4B94-8507-B4D2AFE83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63E8B-79F5-479D-B5E3-8C65AE523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121AC5-6688-4699-A9A4-01CA7191F3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751054-BB36-44AE-A402-8F2D97547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F19C8C-6D27-487C-8E91-0D1C3CE29B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53AFA-4DD9-46C0-9B1C-57E2CF71C3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6A188F-C93E-494E-AB55-9E8999E51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3F2434-C578-4C41-98F5-212900A7DF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FFAF73-9D5A-4FDF-B9A4-012C151B11F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A0A0-A859-499F-AA0D-1F7270C4A3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8a8a8a"/>
              </a:gs>
              <a:gs pos="50000">
                <a:srgbClr val="e1e1e1"/>
              </a:gs>
              <a:gs pos="100000">
                <a:srgbClr val="8a8a8a"/>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3C39-4E0B-460C-B222-675F4EB58CC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87FF-E24E-459B-9293-D22ABD4EC0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B23A-0C2C-43F5-A764-C8285E2BBA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3001-F2DC-41CC-A2AC-B4599BE8E6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1B8F-5746-44E5-9692-FFAC62CB48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DB47-5208-48F4-83DD-9B1488EBD2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9"/>
          <p:cNvGrpSpPr/>
          <p:nvPr/>
        </p:nvGrpSpPr>
        <p:grpSpPr>
          <a:xfrm>
            <a:off x="-6480" y="5791320"/>
            <a:ext cx="3402000" cy="1079280"/>
            <a:chOff x="-6480" y="5791320"/>
            <a:chExt cx="3402000" cy="1079280"/>
          </a:xfrm>
        </p:grpSpPr>
        <p:pic>
          <p:nvPicPr>
            <p:cNvPr id="324" name="Right Triangle 9"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8360"/>
            <a:ext cx="3414600" cy="10987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FE86-3946-4539-9E92-5B34E49730E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handbooks.dadeschools.net/policies/90/index.htm" TargetMode="External"/><Relationship Id="rId2" Type="http://schemas.openxmlformats.org/officeDocument/2006/relationships/hyperlink" Target="http://ehandbooks.dadeschools.net/policies/90/index.htm"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ycardoso@dadeshcools.net"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nutrition.dadeschools.net/"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3" descr="F:\IB\IB_CREST_FF.jpg"/>
          <p:cNvPicPr/>
          <p:nvPr/>
        </p:nvPicPr>
        <p:blipFill>
          <a:blip r:embed="rId1"/>
          <a:stretch/>
        </p:blipFill>
        <p:spPr>
          <a:xfrm>
            <a:off x="2971800" y="228600"/>
            <a:ext cx="2992320" cy="2685960"/>
          </a:xfrm>
          <a:prstGeom prst="rect">
            <a:avLst/>
          </a:prstGeom>
          <a:ln w="0">
            <a:noFill/>
          </a:ln>
        </p:spPr>
      </p:pic>
      <p:sp>
        <p:nvSpPr>
          <p:cNvPr id="378" name="PlaceHolder 1"/>
          <p:cNvSpPr>
            <a:spLocks noGrp="1"/>
          </p:cNvSpPr>
          <p:nvPr>
            <p:ph type="subTitle"/>
          </p:nvPr>
        </p:nvSpPr>
        <p:spPr>
          <a:xfrm>
            <a:off x="1371600" y="3200040"/>
            <a:ext cx="6400800" cy="213372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enberg-Fisher K-8 Center</a:t>
            </a:r>
            <a:endParaRPr b="0" lang="en-US" sz="28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 Orientation 2015-2016 </a:t>
            </a:r>
            <a:endParaRPr b="0" lang="en-US" sz="28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ia P. Costa, Principal</a:t>
            </a:r>
            <a:endParaRPr b="0" lang="en-US" sz="20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sha V. Marrero, Assistant Principal</a:t>
            </a:r>
            <a:endParaRPr b="0" lang="en-US" sz="20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y Murphy, Assistant Principal</a:t>
            </a:r>
            <a:endParaRPr b="0" lang="en-US" sz="2000" spc="-1" strike="noStrike">
              <a:solidFill>
                <a:srgbClr val="000000"/>
              </a:solidFill>
              <a:latin typeface="Lucida Sans Unicod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lease join your child in our Panda Cafeteria </a:t>
            </a:r>
            <a:r>
              <a:rPr b="1" lang="en-US" sz="2700" spc="-1" strike="noStrike">
                <a:solidFill>
                  <a:srgbClr val="000000"/>
                </a:solidFill>
                <a:latin typeface="Comic Sans MS"/>
              </a:rPr>
              <a:t>every morning</a:t>
            </a:r>
            <a:r>
              <a:rPr b="0" lang="en-US" sz="2700" spc="-1" strike="noStrike">
                <a:solidFill>
                  <a:srgbClr val="000000"/>
                </a:solidFill>
                <a:latin typeface="Comic Sans MS"/>
              </a:rPr>
              <a:t>.</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Free breakfast is served for students from 7:30 a.m. to 8:15 a.m. only. </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lease be aware that breakfast will not be served after 8:15 a.m. unless the students ride on the M-DCPS buses and those buses arrive late.</a:t>
            </a:r>
            <a:endParaRPr b="0" lang="en-US" sz="2700" spc="-1" strike="noStrike">
              <a:solidFill>
                <a:srgbClr val="000000"/>
              </a:solidFill>
              <a:latin typeface="Lucida Sans Unicode"/>
            </a:endParaRPr>
          </a:p>
        </p:txBody>
      </p:sp>
      <p:pic>
        <p:nvPicPr>
          <p:cNvPr id="396" name="Rectangle 2" descr=""/>
          <p:cNvPicPr/>
          <p:nvPr/>
        </p:nvPicPr>
        <p:blipFill>
          <a:blip r:embed="rId1"/>
          <a:stretch/>
        </p:blipFill>
        <p:spPr>
          <a:xfrm>
            <a:off x="201600" y="274680"/>
            <a:ext cx="8485200" cy="1243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0680"/>
            <a:ext cx="8229600" cy="5072040"/>
          </a:xfrm>
          <a:prstGeom prst="rect">
            <a:avLst/>
          </a:prstGeom>
          <a:noFill/>
          <a:ln w="0">
            <a:noFill/>
          </a:ln>
        </p:spPr>
        <p:txBody>
          <a:bodyPr anchor="t">
            <a:normAutofit fontScale="95000"/>
          </a:bodyPr>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eople can bully by hitting. They bully by talking. People who are bullied can be sad, lonely and sometimes mad.</a:t>
            </a: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e don't allow bullying at our school. We don't allow it on the school bus. And if someone is bullying your child outside school we want to hear about that, too. </a:t>
            </a: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0" lang="en-US" sz="2700" spc="-1" strike="noStrike">
                <a:solidFill>
                  <a:srgbClr val="000000"/>
                </a:solidFill>
                <a:latin typeface="Comic Sans MS"/>
              </a:rPr>
              <a:t>If your child sees someone else being bullied – encourage them to speak up and not just stand by and do nothing. </a:t>
            </a:r>
            <a:endParaRPr b="0" lang="en-US" sz="2700" spc="-1" strike="noStrike">
              <a:solidFill>
                <a:srgbClr val="000000"/>
              </a:solidFill>
              <a:latin typeface="Lucida Sans Unicode"/>
            </a:endParaRPr>
          </a:p>
          <a:p>
            <a:pPr marL="346680" indent="-242640" algn="ctr">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port it!</a:t>
            </a:r>
            <a:endParaRPr b="0" lang="en-US" sz="3200" spc="-1" strike="noStrike">
              <a:solidFill>
                <a:srgbClr val="000000"/>
              </a:solidFill>
              <a:latin typeface="Lucida Sans Unicode"/>
            </a:endParaRPr>
          </a:p>
          <a:p>
            <a:pPr marL="346680" indent="-24264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98" name="Rectangle 2" descr=""/>
          <p:cNvPicPr/>
          <p:nvPr/>
        </p:nvPicPr>
        <p:blipFill>
          <a:blip r:embed="rId1"/>
          <a:stretch/>
        </p:blipFill>
        <p:spPr>
          <a:xfrm>
            <a:off x="201600" y="274680"/>
            <a:ext cx="8485200" cy="124308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457200" y="274680"/>
            <a:ext cx="8229600" cy="1146240"/>
          </a:xfrm>
          <a:prstGeom prst="rect">
            <a:avLst/>
          </a:prstGeom>
          <a:ln w="0">
            <a:noFill/>
          </a:ln>
        </p:spPr>
      </p:pic>
      <p:sp>
        <p:nvSpPr>
          <p:cNvPr id="40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arents/Students can leave a note in the Bully Box.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You can go online to the parent/student portal.</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Or you can call the bullying hotline at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305-995-CARE.</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0" lang="en-US" sz="2700" spc="-1" strike="noStrike">
                <a:solidFill>
                  <a:srgbClr val="000000"/>
                </a:solidFill>
                <a:latin typeface="Comic Sans MS"/>
              </a:rPr>
              <a:t>We all have to do our very best to keep our school safe. </a:t>
            </a:r>
            <a:endParaRPr b="0" lang="en-US" sz="27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560" y="1480680"/>
            <a:ext cx="4800600" cy="385308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ODE OF STUDENT CONDUCT:</a:t>
            </a:r>
            <a:r>
              <a:rPr b="0" lang="en-US" sz="2400" spc="-1" strike="noStrike" u="sng">
                <a:solidFill>
                  <a:srgbClr val="000000"/>
                </a:solidFill>
                <a:uFillTx/>
                <a:latin typeface="Comic Sans MS"/>
              </a:rPr>
              <a:t> </a:t>
            </a:r>
            <a:r>
              <a:rPr b="0" lang="en-US" sz="2400" spc="-1" strike="noStrike">
                <a:solidFill>
                  <a:srgbClr val="000000"/>
                </a:solidFill>
                <a:latin typeface="Comic Sans MS"/>
              </a:rPr>
              <a:t>is designed to maintain a safe and positive learning environment.</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access in the following link – Student Portal</a:t>
            </a:r>
            <a:r>
              <a:rPr b="0" lang="en-US" sz="2400" spc="-1" strike="noStrike" u="sng">
                <a:solidFill>
                  <a:srgbClr val="5f5f5f"/>
                </a:solidFill>
                <a:uFillTx/>
                <a:latin typeface="Comic Sans MS"/>
                <a:hlinkClick r:id="rId1"/>
              </a:rPr>
              <a:t> </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Comic Sans MS"/>
                <a:hlinkClick r:id="rId2"/>
              </a:rPr>
              <a:t>http://ehandbooks.dadeschools.net/policies/90/index.htm</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2" name="Rectangle 2" descr=""/>
          <p:cNvPicPr/>
          <p:nvPr/>
        </p:nvPicPr>
        <p:blipFill>
          <a:blip r:embed="rId3"/>
          <a:stretch/>
        </p:blipFill>
        <p:spPr>
          <a:xfrm>
            <a:off x="208080" y="274680"/>
            <a:ext cx="8478720" cy="1236600"/>
          </a:xfrm>
          <a:prstGeom prst="rect">
            <a:avLst/>
          </a:prstGeom>
          <a:ln w="0">
            <a:noFill/>
          </a:ln>
        </p:spPr>
      </p:pic>
      <p:pic>
        <p:nvPicPr>
          <p:cNvPr id="403" name="Picture 4" descr=""/>
          <p:cNvPicPr/>
          <p:nvPr/>
        </p:nvPicPr>
        <p:blipFill>
          <a:blip r:embed="rId4"/>
          <a:stretch/>
        </p:blipFill>
        <p:spPr>
          <a:xfrm>
            <a:off x="5410080" y="1371600"/>
            <a:ext cx="3495960" cy="4381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09120" y="1371240"/>
            <a:ext cx="8077320" cy="4724280"/>
          </a:xfrm>
          <a:prstGeom prst="rect">
            <a:avLst/>
          </a:prstGeom>
          <a:noFill/>
          <a:ln w="0">
            <a:noFill/>
          </a:ln>
        </p:spPr>
        <p:txBody>
          <a:bodyPr anchor="t">
            <a:normAutofit/>
          </a:bodyPr>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arents are required to pick up students at the time of dismissal.</a:t>
            </a: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Students in grades PK-K will be dismissed from their classroom. All students in grades 1-8 will go to the Children of the World Park to wait for parents following dismissal and/or to the designated dismissal area (after school care, etc.)</a:t>
            </a: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Fifteen minutes after dismissal, any student who has not been picked up, will be taken to the Fienberg Office to call home.</a:t>
            </a: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Parents will be required to sign-out late pick-up and will be reminded of school hours.</a:t>
            </a: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5" name="Rectangle 2" descr=""/>
          <p:cNvPicPr/>
          <p:nvPr/>
        </p:nvPicPr>
        <p:blipFill>
          <a:blip r:embed="rId1"/>
          <a:stretch/>
        </p:blipFill>
        <p:spPr>
          <a:xfrm>
            <a:off x="201600" y="274680"/>
            <a:ext cx="8485200" cy="1243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219320"/>
            <a:ext cx="8229600" cy="4767120"/>
          </a:xfrm>
          <a:prstGeom prst="rect">
            <a:avLst/>
          </a:prstGeom>
          <a:noFill/>
          <a:ln w="0">
            <a:noFill/>
          </a:ln>
        </p:spPr>
        <p:txBody>
          <a:bodyPr anchor="t">
            <a:normAutofit fontScale="98000"/>
          </a:bodyPr>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Continuous violations/offenses may be caused for disciplinary action and/or referral to the after-school care program and/or other agencies.</a:t>
            </a: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tudents in tutoring/after school programs, clubs or detention will meet outside the assigned classes.</a:t>
            </a: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ll other students are to leave school grounds immediately after dismissal.</a:t>
            </a: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tudents will walk with teachers to designated exits.</a:t>
            </a:r>
            <a:endParaRPr b="0" lang="en-US" sz="2500" spc="-1" strike="noStrike">
              <a:solidFill>
                <a:srgbClr val="000000"/>
              </a:solidFill>
              <a:latin typeface="Lucida Sans Unicode"/>
            </a:endParaRPr>
          </a:p>
        </p:txBody>
      </p:sp>
      <p:pic>
        <p:nvPicPr>
          <p:cNvPr id="407" name="Rectangle 2" descr=""/>
          <p:cNvPicPr/>
          <p:nvPr/>
        </p:nvPicPr>
        <p:blipFill>
          <a:blip r:embed="rId1"/>
          <a:stretch/>
        </p:blipFill>
        <p:spPr>
          <a:xfrm>
            <a:off x="201600" y="274680"/>
            <a:ext cx="8485200" cy="1243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lgn="ctr">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We are a Mandatory Uniform School.</a:t>
            </a:r>
            <a:r>
              <a:rPr b="0" lang="en-US" sz="2600" spc="-1" strike="noStrike">
                <a:solidFill>
                  <a:srgbClr val="000000"/>
                </a:solidFill>
                <a:latin typeface="Comic Sans MS"/>
              </a:rPr>
              <a:t> </a:t>
            </a:r>
            <a:endParaRPr b="0" lang="en-US" sz="2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niform Colors – Elementary (PK-5)</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mic Sans MS"/>
              </a:rPr>
              <a:t>Red</a:t>
            </a:r>
            <a:r>
              <a:rPr b="0" lang="en-US" sz="2600" spc="-1" strike="noStrike">
                <a:solidFill>
                  <a:srgbClr val="000000"/>
                </a:solidFill>
                <a:latin typeface="Comic Sans MS"/>
              </a:rPr>
              <a:t> or </a:t>
            </a:r>
            <a:r>
              <a:rPr b="0" lang="en-US" sz="2600" spc="-1" strike="noStrike">
                <a:solidFill>
                  <a:srgbClr val="002060"/>
                </a:solidFill>
                <a:latin typeface="Comic Sans MS"/>
              </a:rPr>
              <a:t>Navy Blue </a:t>
            </a:r>
            <a:r>
              <a:rPr b="0" lang="en-US" sz="2600" spc="-1" strike="noStrike">
                <a:solidFill>
                  <a:srgbClr val="000000"/>
                </a:solidFill>
                <a:latin typeface="Comic Sans MS"/>
              </a:rPr>
              <a:t>Polo Shirt with school emblem</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Comic Sans MS"/>
              </a:rPr>
              <a:t>Khaki bottoms</a:t>
            </a:r>
            <a:endParaRPr b="0" lang="en-US" sz="2600" spc="-1" strike="noStrike">
              <a:solidFill>
                <a:srgbClr val="000000"/>
              </a:solidFill>
              <a:latin typeface="Lucida Sans Unicode"/>
            </a:endParaRPr>
          </a:p>
        </p:txBody>
      </p:sp>
      <p:pic>
        <p:nvPicPr>
          <p:cNvPr id="409" name="Rectangle 2" descr=""/>
          <p:cNvPicPr/>
          <p:nvPr/>
        </p:nvPicPr>
        <p:blipFill>
          <a:blip r:embed="rId1"/>
          <a:stretch/>
        </p:blipFill>
        <p:spPr>
          <a:xfrm>
            <a:off x="201600" y="274680"/>
            <a:ext cx="8485200" cy="124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ddle School Colors (6-8)</a:t>
            </a: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ite or Black Polo Shirt with school emblem</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Khaki bottoms</a:t>
            </a: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DENIM JEANS ARE NOT PART OF OUR UNIFORM POLICY.</a:t>
            </a:r>
            <a:r>
              <a:rPr b="0" lang="en-US" sz="2700" spc="-1" strike="noStrike">
                <a:solidFill>
                  <a:srgbClr val="000000"/>
                </a:solidFill>
                <a:latin typeface="Comic Sans MS"/>
              </a:rPr>
              <a:t>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0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295280"/>
            <a:ext cx="8229600" cy="4648320"/>
          </a:xfrm>
          <a:prstGeom prst="rect">
            <a:avLst/>
          </a:prstGeom>
          <a:noFill/>
          <a:ln w="0">
            <a:noFill/>
          </a:ln>
        </p:spPr>
        <p:txBody>
          <a:bodyPr anchor="t">
            <a:normAutofit/>
          </a:bodyPr>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mic Sans MS"/>
              </a:rPr>
              <a:t>ELECTRONIC DEVICES:</a:t>
            </a:r>
            <a:r>
              <a:rPr b="0" lang="en-US" sz="2500" spc="-1" strike="noStrike">
                <a:solidFill>
                  <a:srgbClr val="000000"/>
                </a:solidFill>
                <a:latin typeface="Comic Sans MS"/>
              </a:rPr>
              <a:t> such as MP3 Players, ipods, iphone, ipads, NintendoDS, CD Players, tape recorders, and/or any toys to include trading cards, and any other personal belongings are not allowed at school and should be left at home. </a:t>
            </a: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We are not responsible nor do we investigate if any of these items get lost or stolen. </a:t>
            </a:r>
            <a:endParaRPr b="0" lang="en-US" sz="25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f any student is found with any of these items, the item will be confiscated by the teacher or other personnel and submitted to an administrator for parent pick-up. </a:t>
            </a:r>
            <a:endParaRPr b="0" lang="en-US" sz="2500" spc="-1" strike="noStrike">
              <a:solidFill>
                <a:srgbClr val="000000"/>
              </a:solidFill>
              <a:latin typeface="Lucida Sans Unicode"/>
            </a:endParaRPr>
          </a:p>
        </p:txBody>
      </p:sp>
      <p:pic>
        <p:nvPicPr>
          <p:cNvPr id="413" name="Rectangle 2" descr=""/>
          <p:cNvPicPr/>
          <p:nvPr/>
        </p:nvPicPr>
        <p:blipFill>
          <a:blip r:embed="rId1"/>
          <a:stretch/>
        </p:blipFill>
        <p:spPr>
          <a:xfrm>
            <a:off x="201600" y="274680"/>
            <a:ext cx="8485200" cy="1243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mic Sans MS"/>
              </a:rPr>
              <a:t>CELLULAR PHONES:</a:t>
            </a:r>
            <a:r>
              <a:rPr b="1" lang="en-US" sz="2500" spc="-1" strike="noStrike">
                <a:solidFill>
                  <a:srgbClr val="000000"/>
                </a:solidFill>
                <a:latin typeface="Comic Sans MS"/>
              </a:rPr>
              <a:t> </a:t>
            </a: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ust be turned off during school hours. </a:t>
            </a: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f phones are activated or cause any disruption, they will be confiscated by the teacher or other personnel and submitted to an administrator for parent pick-up.</a:t>
            </a: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WE DO NOT INVESTIGATE AND WE ARE NOT RESPONSIBLE FOR LOST OR STOLEN CELLULAR PHONES.</a:t>
            </a:r>
            <a:r>
              <a:rPr b="1" lang="en-US"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5" name="Rectangle 2" descr=""/>
          <p:cNvPicPr/>
          <p:nvPr/>
        </p:nvPicPr>
        <p:blipFill>
          <a:blip r:embed="rId1"/>
          <a:stretch/>
        </p:blipFill>
        <p:spPr>
          <a:xfrm>
            <a:off x="201600" y="274680"/>
            <a:ext cx="8485200" cy="124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371240"/>
            <a:ext cx="8229600" cy="5181480"/>
          </a:xfrm>
          <a:prstGeom prst="rect">
            <a:avLst/>
          </a:prstGeom>
          <a:noFill/>
          <a:ln w="0">
            <a:noFill/>
          </a:ln>
        </p:spPr>
        <p:txBody>
          <a:bodyPr anchor="t">
            <a:normAutofit/>
          </a:bodyPr>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BSENCES</a:t>
            </a:r>
            <a:r>
              <a:rPr b="1" lang="en-US" sz="2800" spc="-1" strike="noStrike">
                <a:solidFill>
                  <a:srgbClr val="000000"/>
                </a:solidFill>
                <a:latin typeface="Comic Sans MS"/>
              </a:rPr>
              <a:t>: </a:t>
            </a:r>
            <a:endParaRPr b="0" lang="en-US" sz="28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r child must be absent from school, please send a written note from you and/or doctor upon your child’s return to school in order for the absence to be excused. For your convenience, we have a form in the main office.</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EXCUSED ABSENCES:</a:t>
            </a:r>
            <a:endParaRPr b="0" lang="en-US" sz="28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ckness, </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th in the family (three days only), </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ctor or dental appointments and </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gious holidays.  </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bsences for any other reasons are not excused.</a:t>
            </a:r>
            <a:endParaRPr b="0" lang="en-US" sz="2400" spc="-1" strike="noStrike">
              <a:solidFill>
                <a:srgbClr val="000000"/>
              </a:solidFill>
              <a:latin typeface="Lucida Sans Unicode"/>
            </a:endParaRPr>
          </a:p>
        </p:txBody>
      </p:sp>
      <p:pic>
        <p:nvPicPr>
          <p:cNvPr id="380" name="Rectangle 2" descr=""/>
          <p:cNvPicPr/>
          <p:nvPr/>
        </p:nvPicPr>
        <p:blipFill>
          <a:blip r:embed="rId1"/>
          <a:stretch/>
        </p:blipFill>
        <p:spPr>
          <a:xfrm>
            <a:off x="201600" y="274680"/>
            <a:ext cx="8485200" cy="12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Fire Drills will be conducted once a month.</a:t>
            </a: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tudents and any visitor in our building will walk in a quiet and orderly manner to the designated/nearest exit.</a:t>
            </a:r>
            <a:r>
              <a:rPr b="0" lang="en-US" sz="2500" spc="-1" strike="noStrike">
                <a:solidFill>
                  <a:srgbClr val="00206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Please remain outside in quiet lines until the principal and/or the assistant principal give visual indication that you should return to their classrooms.</a:t>
            </a: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17" name="Rectangle 2" descr=""/>
          <p:cNvPicPr/>
          <p:nvPr/>
        </p:nvPicPr>
        <p:blipFill>
          <a:blip r:embed="rId1"/>
          <a:stretch/>
        </p:blipFill>
        <p:spPr>
          <a:xfrm>
            <a:off x="201600" y="274680"/>
            <a:ext cx="8485200" cy="1243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During the first week of school, your child will be taking many forms home. Please sign and return all of these to your child’s teacher.</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mergency Contact Card </a:t>
            </a:r>
            <a:r>
              <a:rPr b="0" lang="en-US" sz="2400" spc="-1" strike="noStrike">
                <a:solidFill>
                  <a:srgbClr val="000000"/>
                </a:solidFill>
                <a:latin typeface="Comic Sans MS"/>
              </a:rPr>
              <a:t>–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ode of Student Conduct </a:t>
            </a:r>
            <a:r>
              <a:rPr b="0" lang="en-US" sz="2400" spc="-1" strike="noStrike">
                <a:solidFill>
                  <a:srgbClr val="000000"/>
                </a:solidFill>
                <a:latin typeface="Comic Sans MS"/>
              </a:rPr>
              <a:t>–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Media Release </a:t>
            </a:r>
            <a:r>
              <a:rPr b="0" lang="en-US" sz="2400" spc="-1" strike="noStrike">
                <a:solidFill>
                  <a:srgbClr val="000000"/>
                </a:solidFill>
                <a:latin typeface="Comic Sans MS"/>
              </a:rPr>
              <a:t>–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ocedures</a:t>
            </a:r>
            <a:r>
              <a:rPr b="0" lang="en-US" sz="2400" spc="-1" strike="noStrike">
                <a:solidFill>
                  <a:srgbClr val="000000"/>
                </a:solidFill>
                <a:latin typeface="Comic Sans MS"/>
              </a:rPr>
              <a:t> –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Agenda</a:t>
            </a:r>
            <a:r>
              <a:rPr b="0" lang="en-US" sz="2400" spc="-1" strike="noStrike">
                <a:solidFill>
                  <a:srgbClr val="000000"/>
                </a:solidFill>
                <a:latin typeface="Comic Sans MS"/>
              </a:rPr>
              <a:t> –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Responsible Use of Technology </a:t>
            </a:r>
            <a:r>
              <a:rPr b="0" lang="en-US" sz="2400" spc="-1" strike="noStrike">
                <a:solidFill>
                  <a:srgbClr val="000000"/>
                </a:solidFill>
                <a:latin typeface="Comic Sans MS"/>
              </a:rPr>
              <a:t>–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omic Sans MS"/>
              </a:rPr>
              <a:t>Title I Migrant Education Program Survey </a:t>
            </a:r>
            <a:r>
              <a:rPr b="0" lang="en-US" sz="2700" spc="-1" strike="noStrike">
                <a:solidFill>
                  <a:srgbClr val="000000"/>
                </a:solidFill>
                <a:latin typeface="Comic Sans MS"/>
              </a:rPr>
              <a:t>– Complete/Sign/Return</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Comic Sans MS"/>
              </a:rPr>
              <a:t>Accident Insurance </a:t>
            </a:r>
            <a:r>
              <a:rPr b="0" lang="en-US" sz="2700" spc="-1" strike="noStrike">
                <a:solidFill>
                  <a:srgbClr val="000000"/>
                </a:solidFill>
                <a:latin typeface="Comic Sans MS"/>
              </a:rPr>
              <a:t>– Online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Comic Sans MS"/>
              </a:rPr>
              <a:t>Lunch Application </a:t>
            </a:r>
            <a:r>
              <a:rPr b="0" lang="en-US" sz="2700" spc="-1" strike="noStrike">
                <a:solidFill>
                  <a:srgbClr val="000000"/>
                </a:solidFill>
                <a:latin typeface="Comic Sans MS"/>
              </a:rPr>
              <a:t>– Online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Comic Sans MS"/>
              </a:rPr>
              <a:t>Grades reflect a student’s academic performance as compared with norms that are appropriate for the grade or subject.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0" lang="en-US" sz="2400" spc="-1" strike="noStrike">
                <a:solidFill>
                  <a:srgbClr val="000000"/>
                </a:solidFill>
                <a:latin typeface="Comic Sans MS"/>
              </a:rPr>
              <a:t>	</a:t>
            </a:r>
            <a:r>
              <a:rPr b="0" lang="en-US" sz="2400" spc="-1" strike="noStrike">
                <a:solidFill>
                  <a:srgbClr val="000000"/>
                </a:solidFill>
                <a:latin typeface="Comic Sans MS"/>
              </a:rPr>
              <a:t>90 – 100</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Outstanding</a:t>
            </a:r>
            <a:endParaRPr b="0" lang="en-US" sz="24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80 - 8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Good</a:t>
            </a:r>
            <a:endParaRPr b="0" lang="en-US" sz="24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70 – 7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atisfactory</a:t>
            </a:r>
            <a:endParaRPr b="0" lang="en-US" sz="24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0 – 6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Improvement Needed</a:t>
            </a:r>
            <a:endParaRPr b="0" lang="en-US" sz="24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9 – or below</a:t>
            </a:r>
            <a:r>
              <a:rPr b="0" lang="en-US" sz="2400" spc="-1" strike="noStrike">
                <a:solidFill>
                  <a:srgbClr val="000000"/>
                </a:solidFill>
                <a:latin typeface="Comic Sans MS"/>
              </a:rPr>
              <a:t>	</a:t>
            </a:r>
            <a:r>
              <a:rPr b="0" lang="en-US" sz="2400" spc="-1" strike="noStrike">
                <a:solidFill>
                  <a:srgbClr val="000000"/>
                </a:solidFill>
                <a:latin typeface="Comic Sans MS"/>
              </a:rPr>
              <a:t>Unsatisfactory</a:t>
            </a:r>
            <a:endParaRPr b="0" lang="en-US" sz="2400" spc="-1" strike="noStrike">
              <a:solidFill>
                <a:srgbClr val="000000"/>
              </a:solidFill>
              <a:latin typeface="Lucida Sans Unicode"/>
            </a:endParaRPr>
          </a:p>
        </p:txBody>
      </p:sp>
      <p:pic>
        <p:nvPicPr>
          <p:cNvPr id="423" name="Rectangle 2" descr=""/>
          <p:cNvPicPr/>
          <p:nvPr/>
        </p:nvPicPr>
        <p:blipFill>
          <a:blip r:embed="rId1"/>
          <a:stretch/>
        </p:blipFill>
        <p:spPr>
          <a:xfrm>
            <a:off x="201600" y="274680"/>
            <a:ext cx="8485200" cy="1243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525920"/>
          </a:xfrm>
          <a:prstGeom prst="rect">
            <a:avLst/>
          </a:prstGeom>
          <a:noFill/>
          <a:ln w="0">
            <a:noFill/>
          </a:ln>
        </p:spPr>
        <p:txBody>
          <a:bodyPr anchor="t">
            <a:normAutofit/>
          </a:bodyPr>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rades indicate the teacher’s evaluation of a student’s effort in the instructional program; </a:t>
            </a:r>
            <a:endParaRPr b="0" lang="en-US" sz="26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se grades are independent of academic and conduct grades. </a:t>
            </a:r>
            <a:endParaRPr b="0" lang="en-US" sz="26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effort grade of </a:t>
            </a:r>
            <a:r>
              <a:rPr b="1" lang="en-US" sz="2200" spc="-1" strike="noStrike">
                <a:solidFill>
                  <a:srgbClr val="000000"/>
                </a:solidFill>
                <a:latin typeface="Comic Sans MS"/>
              </a:rPr>
              <a:t>"1"</a:t>
            </a:r>
            <a:r>
              <a:rPr b="0" lang="en-US" sz="2200" spc="-1" strike="noStrike">
                <a:solidFill>
                  <a:srgbClr val="000000"/>
                </a:solidFill>
                <a:latin typeface="Comic Sans MS"/>
              </a:rPr>
              <a:t> indicates outstanding effort on the part of the student. </a:t>
            </a:r>
            <a:endParaRPr b="0" lang="en-US" sz="22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effort grade of </a:t>
            </a:r>
            <a:r>
              <a:rPr b="1" lang="en-US" sz="2200" spc="-1" strike="noStrike">
                <a:solidFill>
                  <a:srgbClr val="000000"/>
                </a:solidFill>
                <a:latin typeface="Comic Sans MS"/>
              </a:rPr>
              <a:t>"2"</a:t>
            </a:r>
            <a:r>
              <a:rPr b="0" lang="en-US" sz="2200" spc="-1" strike="noStrike">
                <a:solidFill>
                  <a:srgbClr val="000000"/>
                </a:solidFill>
                <a:latin typeface="Comic Sans MS"/>
              </a:rPr>
              <a:t> indicates satisfactory effort on the part of the student. </a:t>
            </a:r>
            <a:endParaRPr b="0" lang="en-US" sz="22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effort grade of </a:t>
            </a:r>
            <a:r>
              <a:rPr b="1" lang="en-US" sz="2200" spc="-1" strike="noStrike">
                <a:solidFill>
                  <a:srgbClr val="000000"/>
                </a:solidFill>
                <a:latin typeface="Comic Sans MS"/>
              </a:rPr>
              <a:t>"3"</a:t>
            </a:r>
            <a:r>
              <a:rPr b="0" lang="en-US" sz="2200" spc="-1" strike="noStrike">
                <a:solidFill>
                  <a:srgbClr val="000000"/>
                </a:solidFill>
                <a:latin typeface="Comic Sans MS"/>
              </a:rPr>
              <a:t> reflects insufficient effort on the part of the student.</a:t>
            </a:r>
            <a:r>
              <a:rPr b="0" lang="en-US" sz="2200" spc="-1" strike="noStrike">
                <a:solidFill>
                  <a:srgbClr val="000000"/>
                </a:solidFill>
                <a:latin typeface="Lucida Sans Unicode"/>
              </a:rPr>
              <a:t> </a:t>
            </a:r>
            <a:endParaRPr b="0" lang="en-US" sz="22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25" name="Rectangle 2" descr=""/>
          <p:cNvPicPr/>
          <p:nvPr/>
        </p:nvPicPr>
        <p:blipFill>
          <a:blip r:embed="rId1"/>
          <a:stretch/>
        </p:blipFill>
        <p:spPr>
          <a:xfrm>
            <a:off x="201600" y="274680"/>
            <a:ext cx="8485200" cy="1243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Grades are used to communicate clearly to both students and parents the teacher's evaluation of a student's behavior.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se grades are independent of academic and effort grades.</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7" name="Rectangle 2" descr=""/>
          <p:cNvPicPr/>
          <p:nvPr/>
        </p:nvPicPr>
        <p:blipFill>
          <a:blip r:embed="rId1"/>
          <a:stretch/>
        </p:blipFill>
        <p:spPr>
          <a:xfrm>
            <a:off x="201600" y="274680"/>
            <a:ext cx="8485200" cy="1243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gular, purposeful home learning assignments are an essential component of the instructional program at our school.</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Home learning will be regularly assigned and reviewed by teachers Monday through Friday.</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ll students must read 30 minutes a day, at home, at their independent level. </a:t>
            </a:r>
            <a:endParaRPr b="0" lang="en-US" sz="2500" spc="-1" strike="noStrike">
              <a:solidFill>
                <a:srgbClr val="000000"/>
              </a:solidFill>
              <a:latin typeface="Lucida Sans Unicode"/>
            </a:endParaRPr>
          </a:p>
        </p:txBody>
      </p:sp>
      <p:pic>
        <p:nvPicPr>
          <p:cNvPr id="429" name="Rectangle 2" descr=""/>
          <p:cNvPicPr/>
          <p:nvPr/>
        </p:nvPicPr>
        <p:blipFill>
          <a:blip r:embed="rId1"/>
          <a:stretch/>
        </p:blipFill>
        <p:spPr>
          <a:xfrm>
            <a:off x="201600" y="274680"/>
            <a:ext cx="8485200" cy="1243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e are an IBO World School in both the Primary Years Programme (PYP) and in our Middle Years Programme (MYP)</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International Baccalaureate Organization (IBO) aims to develop inquiring, knowledgeable and caring young people who help to create a better and more peaceful world through intercultural understanding and respect.</a:t>
            </a:r>
            <a:endParaRPr b="0" lang="en-US" sz="2700" spc="-1" strike="noStrike">
              <a:solidFill>
                <a:srgbClr val="000000"/>
              </a:solidFill>
              <a:latin typeface="Lucida Sans Unicode"/>
            </a:endParaRPr>
          </a:p>
        </p:txBody>
      </p:sp>
      <p:pic>
        <p:nvPicPr>
          <p:cNvPr id="431" name="Rectangle 2" descr=""/>
          <p:cNvPicPr/>
          <p:nvPr/>
        </p:nvPicPr>
        <p:blipFill>
          <a:blip r:embed="rId1"/>
          <a:stretch/>
        </p:blipFill>
        <p:spPr>
          <a:xfrm>
            <a:off x="237960" y="146160"/>
            <a:ext cx="8448840" cy="1573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ectangle 2" descr=""/>
          <p:cNvPicPr/>
          <p:nvPr/>
        </p:nvPicPr>
        <p:blipFill>
          <a:blip r:embed="rId1"/>
          <a:stretch/>
        </p:blipFill>
        <p:spPr>
          <a:xfrm>
            <a:off x="457200" y="274680"/>
            <a:ext cx="8229600" cy="1146240"/>
          </a:xfrm>
          <a:prstGeom prst="rect">
            <a:avLst/>
          </a:prstGeom>
          <a:ln w="0">
            <a:noFill/>
          </a:ln>
        </p:spPr>
      </p:pic>
      <p:sp>
        <p:nvSpPr>
          <p:cNvPr id="433"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ithin the PYP it is believed student learning is best done when it is authentic – relevant to the “real” world.</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is year we will be reevaluated. </a:t>
            </a:r>
            <a:endParaRPr b="0" lang="en-US" sz="27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lease attend parent meetings – Parent Calendar</a:t>
            </a:r>
            <a:endParaRPr b="0" lang="en-US" sz="23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sk your child about IB</a:t>
            </a:r>
            <a:endParaRPr b="0" lang="en-US" sz="2300" spc="-1" strike="noStrike">
              <a:solidFill>
                <a:srgbClr val="000000"/>
              </a:solidFill>
              <a:latin typeface="Lucida Sans Unicode"/>
            </a:endParaRPr>
          </a:p>
          <a:p>
            <a:pPr lvl="1" marL="62064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omic Sans MS"/>
              </a:rPr>
              <a:t>If you have any questions or would like to help please contact our IB PYP Coordinator at </a:t>
            </a:r>
            <a:r>
              <a:rPr b="0" lang="en-US" sz="2300" spc="-1" strike="noStrike" u="sng">
                <a:solidFill>
                  <a:srgbClr val="5f5f5f"/>
                </a:solidFill>
                <a:uFillTx/>
                <a:latin typeface="Comic Sans MS"/>
                <a:hlinkClick r:id="rId2"/>
              </a:rPr>
              <a:t>ycardoso@dadeshcools.net</a:t>
            </a:r>
            <a:r>
              <a:rPr b="0" lang="en-US" sz="2300" spc="-1" strike="noStrike">
                <a:solidFill>
                  <a:srgbClr val="ff0000"/>
                </a:solidFill>
                <a:latin typeface="Comic Sans MS"/>
              </a:rPr>
              <a:t> or 305 531 0419 ext. 2121</a:t>
            </a:r>
            <a:endParaRPr b="0" lang="en-US" sz="23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Florida State Standards provide a consistent, clear understanding of what students are expected to learn, so teachers and parents know what they need to do to help them. The standards are designed to be robust and relevant to the real world, reflecting the knowledge and skills that our young people need for success in college and careers. With American students fully prepared for the future, our communities will be best positioned to compete successfully in the global economy.</a:t>
            </a:r>
            <a:endParaRPr b="0" lang="en-US" sz="2400" spc="-1" strike="noStrike">
              <a:solidFill>
                <a:srgbClr val="000000"/>
              </a:solidFill>
              <a:latin typeface="Lucida Sans Unicode"/>
            </a:endParaRPr>
          </a:p>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T</a:t>
            </a:r>
            <a:r>
              <a:rPr b="1" lang="en-US" sz="2500" spc="-1" strike="noStrike" u="sng">
                <a:solidFill>
                  <a:srgbClr val="000000"/>
                </a:solidFill>
                <a:uFillTx/>
                <a:latin typeface="Comic Sans MS"/>
              </a:rPr>
              <a:t>ARDIES:</a:t>
            </a:r>
            <a:r>
              <a:rPr b="0" lang="en-US" sz="2500" spc="-1" strike="noStrike" u="sng">
                <a:solidFill>
                  <a:srgbClr val="000000"/>
                </a:solidFill>
                <a:uFillTx/>
                <a:latin typeface="Comic Sans MS"/>
              </a:rPr>
              <a:t> </a:t>
            </a:r>
            <a:r>
              <a:rPr b="0" lang="en-US" sz="2500" spc="-1" strike="noStrike">
                <a:solidFill>
                  <a:srgbClr val="000000"/>
                </a:solidFill>
                <a:latin typeface="Comic Sans MS"/>
              </a:rPr>
              <a:t>a student is considered tardy after the 8:35 a.m. morning bell rings for students in grades 2-8 and after 8:20 a.m. for students in grades PK-1 and 8:15 a.m. for HeadStart.</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Please synchronize your clocks/watches to match the school time. </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member that excessive absences/tardies may be cause for disciplinary action including: detention, suspension, loss of incentives, referral to the Attendance Review Committee and other agencies.</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2" name="Rectangle 2" descr=""/>
          <p:cNvPicPr/>
          <p:nvPr/>
        </p:nvPicPr>
        <p:blipFill>
          <a:blip r:embed="rId1"/>
          <a:stretch/>
        </p:blipFill>
        <p:spPr>
          <a:xfrm>
            <a:off x="201600" y="274680"/>
            <a:ext cx="8485200" cy="1243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Students who lose or damage a textbook or library book must pay for the loss.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ny damage done to school equipment or property by a student will also be paid for by the student.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3888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ull priced lunch is $2.25 for students in PK-5 grade and </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50 for students in grades 6-8. </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lk will be available a la carte for those who bring a packed lunch.</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lease complete applications online for the free or reduced lunch program at: </a:t>
            </a:r>
            <a:r>
              <a:rPr b="0" lang="en-US" sz="2600" spc="-1" strike="noStrike" u="sng">
                <a:solidFill>
                  <a:srgbClr val="5f5f5f"/>
                </a:solidFill>
                <a:uFillTx/>
                <a:latin typeface="Comic Sans MS"/>
                <a:hlinkClick r:id="rId1"/>
              </a:rPr>
              <a:t>http://nutrition.dadeschools.net/</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39" name="Rectangle 2" descr=""/>
          <p:cNvPicPr/>
          <p:nvPr/>
        </p:nvPicPr>
        <p:blipFill>
          <a:blip r:embed="rId2"/>
          <a:stretch/>
        </p:blipFill>
        <p:spPr>
          <a:xfrm>
            <a:off x="201600" y="274680"/>
            <a:ext cx="8485200" cy="1243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lease make sure you complete online.</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f you qualify, you will receive free/reduce lunch</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n an emergency: A peanut butter sandwich and milk will be provided for students without lunch money or an approved lunch application.</a:t>
            </a:r>
            <a:endParaRPr b="0" lang="en-US" sz="2600" spc="-1" strike="noStrike">
              <a:solidFill>
                <a:srgbClr val="000000"/>
              </a:solidFill>
              <a:latin typeface="Lucida Sans Unicode"/>
            </a:endParaRPr>
          </a:p>
        </p:txBody>
      </p:sp>
      <p:pic>
        <p:nvPicPr>
          <p:cNvPr id="441" name="Rectangle 2" descr=""/>
          <p:cNvPicPr/>
          <p:nvPr/>
        </p:nvPicPr>
        <p:blipFill>
          <a:blip r:embed="rId1"/>
          <a:stretch/>
        </p:blipFill>
        <p:spPr>
          <a:xfrm>
            <a:off x="201600" y="274680"/>
            <a:ext cx="8485200" cy="1243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29528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r child has an accident, please encourage him/her to tell their teacher immediately. </a:t>
            </a: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eacher will send the child to the clinic if needed or will get help. (Make sure your child is registered in the clinic to receive free services).</a:t>
            </a: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eachers will complete an accident report for your child’s safety and will notify you. </a:t>
            </a: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 insurance at a low cost is available, we encourage you to purchase it for your child. The forms will go home the first week of school. </a:t>
            </a:r>
            <a:endParaRPr b="0" lang="en-US" sz="2000" spc="-1" strike="noStrike">
              <a:solidFill>
                <a:srgbClr val="000000"/>
              </a:solidFill>
              <a:latin typeface="Lucida Sans Unicode"/>
            </a:endParaRPr>
          </a:p>
        </p:txBody>
      </p:sp>
      <p:pic>
        <p:nvPicPr>
          <p:cNvPr id="443" name="Rectangle 2" descr=""/>
          <p:cNvPicPr/>
          <p:nvPr/>
        </p:nvPicPr>
        <p:blipFill>
          <a:blip r:embed="rId1"/>
          <a:stretch/>
        </p:blipFill>
        <p:spPr>
          <a:xfrm>
            <a:off x="201600" y="274680"/>
            <a:ext cx="8485200" cy="1243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fontScale="95000"/>
          </a:bodyPr>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arents, students and relatives are encouraged to sign up and become active participants in the Parent Teacher/Student Association (PTSA). </a:t>
            </a: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cost is $5.00 per year. </a:t>
            </a:r>
            <a:endParaRPr b="0" lang="en-US" sz="2700" spc="-1" strike="noStrike">
              <a:solidFill>
                <a:srgbClr val="000000"/>
              </a:solidFill>
              <a:latin typeface="Lucida Sans Unicode"/>
            </a:endParaRPr>
          </a:p>
          <a:p>
            <a:pPr marL="346680" indent="-24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PTA helps the students with field trips, uniform vouchers, parties, graduation and events.</a:t>
            </a: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ctr">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We need to support our PTA!</a:t>
            </a:r>
            <a:endParaRPr b="0" lang="en-US" sz="2700" spc="-1" strike="noStrike">
              <a:solidFill>
                <a:srgbClr val="000000"/>
              </a:solidFill>
              <a:latin typeface="Lucida Sans Unicode"/>
            </a:endParaRPr>
          </a:p>
        </p:txBody>
      </p:sp>
      <p:pic>
        <p:nvPicPr>
          <p:cNvPr id="445" name="Rectangle 2" descr=""/>
          <p:cNvPicPr/>
          <p:nvPr/>
        </p:nvPicPr>
        <p:blipFill>
          <a:blip r:embed="rId1"/>
          <a:stretch/>
        </p:blipFill>
        <p:spPr>
          <a:xfrm>
            <a:off x="237960" y="146160"/>
            <a:ext cx="8448840" cy="1573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LL volunteers/chaperones MUST be cleared through M-DCPS.</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You CANNOT volunteer in your child’s class, BUT you are welcome to volunteer in another classroom.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arents are welcome to join us for breakfast.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Lunch is for students only.</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7" name="Rectangle 2" descr=""/>
          <p:cNvPicPr/>
          <p:nvPr/>
        </p:nvPicPr>
        <p:blipFill>
          <a:blip r:embed="rId1"/>
          <a:stretch/>
        </p:blipFill>
        <p:spPr>
          <a:xfrm>
            <a:off x="237960" y="274680"/>
            <a:ext cx="8448840" cy="1170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219320"/>
            <a:ext cx="8229600" cy="4876560"/>
          </a:xfrm>
          <a:prstGeom prst="rect">
            <a:avLst/>
          </a:prstGeom>
          <a:noFill/>
          <a:ln w="0">
            <a:noFill/>
          </a:ln>
        </p:spPr>
        <p:txBody>
          <a:bodyPr anchor="t">
            <a:normAutofit/>
          </a:bodyPr>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 of the faculty and staff at FFK8 are here to help.  </a:t>
            </a:r>
            <a:endParaRPr b="0" lang="en-US" sz="22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Costa – Principal – Fisher Office</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Marrero – Assistant Principal – Fienberg Office (PK-5)</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rs. Murphy – Assistant Principal – Fisher Office (6-8)</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Torres – Counselor – Fisher Office</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Stebenne – Trust Specialist– 216A</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Cardoso – PYP Coordinator – Room 24A– Fisher Building</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JeanBaptiste – MYP Coordinator – Reading Rm.- Fienberg</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Klahr – Reading Coach – Reading Room - Fienberg</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r. Pearson – Library Services – Media Center</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Betance – Registrar/Attendance – Fienberg Office</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Hernandez– Principal’s Secretary – Fisher Office</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Mansell, Mr. Ribalta, Mr. Martinez – Security</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Bender – Cafeteria Manager</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Ramirez – Head Custodian</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Eimy Janer– Community Involvement Specialist (CIS)</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Erica Martinez– Parent Outreach Headstart </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Lucida Sans Unicode"/>
            </a:endParaRPr>
          </a:p>
        </p:txBody>
      </p:sp>
      <p:pic>
        <p:nvPicPr>
          <p:cNvPr id="449" name="Rectangle 2" descr=""/>
          <p:cNvPicPr/>
          <p:nvPr/>
        </p:nvPicPr>
        <p:blipFill>
          <a:blip r:embed="rId1"/>
          <a:stretch/>
        </p:blipFill>
        <p:spPr>
          <a:xfrm>
            <a:off x="201600" y="274680"/>
            <a:ext cx="8485200" cy="1243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60480" y="609480"/>
            <a:ext cx="9023040" cy="4953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ank you! We hope you that together we have a wonderful and productive 2015-2016 school year!</a:t>
            </a:r>
            <a:endParaRPr b="0" lang="en-US" sz="2700" spc="-1" strike="noStrike">
              <a:solidFill>
                <a:srgbClr val="000000"/>
              </a:solidFill>
              <a:latin typeface="Lucida Sans Unicode"/>
            </a:endParaRPr>
          </a:p>
        </p:txBody>
      </p:sp>
      <p:pic>
        <p:nvPicPr>
          <p:cNvPr id="452" name="Rectangle 2" descr=""/>
          <p:cNvPicPr/>
          <p:nvPr/>
        </p:nvPicPr>
        <p:blipFill>
          <a:blip r:embed="rId1"/>
          <a:stretch/>
        </p:blipFill>
        <p:spPr>
          <a:xfrm>
            <a:off x="201600" y="274680"/>
            <a:ext cx="8485200" cy="1243080"/>
          </a:xfrm>
          <a:prstGeom prst="rect">
            <a:avLst/>
          </a:prstGeom>
          <a:ln w="0">
            <a:noFill/>
          </a:ln>
        </p:spPr>
      </p:pic>
      <p:pic>
        <p:nvPicPr>
          <p:cNvPr id="453" name="Picture 4" descr="MCj03973760000[1]"/>
          <p:cNvPicPr/>
          <p:nvPr/>
        </p:nvPicPr>
        <p:blipFill>
          <a:blip r:embed="rId2"/>
          <a:stretch/>
        </p:blipFill>
        <p:spPr>
          <a:xfrm>
            <a:off x="3200400" y="3048120"/>
            <a:ext cx="2689200" cy="271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609480" indent="-60948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mic Sans MS"/>
              </a:rPr>
              <a:t>PERFECT ATTENDANCE:</a:t>
            </a:r>
            <a:r>
              <a:rPr b="0" lang="en-US" sz="2500" spc="-1" strike="noStrike">
                <a:solidFill>
                  <a:srgbClr val="000000"/>
                </a:solidFill>
                <a:latin typeface="Comic Sans MS"/>
              </a:rPr>
              <a:t> Students who are present every day, AND do not have more than 4 tardies at the end of the school year will be eligible to receive “Perfect Attendance” incentives. </a:t>
            </a:r>
            <a:endParaRPr b="0" lang="en-US" sz="2500" spc="-1" strike="noStrike">
              <a:solidFill>
                <a:srgbClr val="000000"/>
              </a:solidFill>
              <a:latin typeface="Lucida Sans Unicode"/>
            </a:endParaRPr>
          </a:p>
        </p:txBody>
      </p:sp>
      <p:pic>
        <p:nvPicPr>
          <p:cNvPr id="384" name="Rectangle 2" descr=""/>
          <p:cNvPicPr/>
          <p:nvPr/>
        </p:nvPicPr>
        <p:blipFill>
          <a:blip r:embed="rId1"/>
          <a:stretch/>
        </p:blipFill>
        <p:spPr>
          <a:xfrm>
            <a:off x="201600" y="274680"/>
            <a:ext cx="8485200" cy="124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There will be absolutely </a:t>
            </a:r>
            <a:r>
              <a:rPr b="1" lang="en-US" sz="2900" spc="-1" strike="noStrike">
                <a:solidFill>
                  <a:srgbClr val="000000"/>
                </a:solidFill>
                <a:latin typeface="Comic Sans MS"/>
              </a:rPr>
              <a:t>NO STUDENT DROP-OFF BEFORE 7:30</a:t>
            </a:r>
            <a:r>
              <a:rPr b="0" lang="en-US" sz="2900" spc="-1" strike="noStrike">
                <a:solidFill>
                  <a:srgbClr val="000000"/>
                </a:solidFill>
                <a:latin typeface="Comic Sans MS"/>
              </a:rPr>
              <a:t> </a:t>
            </a:r>
            <a:r>
              <a:rPr b="1" lang="en-US" sz="2900" spc="-1" strike="noStrike">
                <a:solidFill>
                  <a:srgbClr val="000000"/>
                </a:solidFill>
                <a:latin typeface="Comic Sans MS"/>
              </a:rPr>
              <a:t>a.m.</a:t>
            </a:r>
            <a:endParaRPr b="0" lang="en-US" sz="29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Supervised Before School Care is NOT available. </a:t>
            </a:r>
            <a:endParaRPr b="0" lang="en-US" sz="29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PK-Headstart</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Classrooms/Portable</a:t>
            </a:r>
            <a:endParaRPr b="0" lang="en-US" sz="25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KG - 2</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Cafeteria</a:t>
            </a:r>
            <a:endParaRPr b="0" lang="en-US" sz="25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3 - 5</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Hardcourt</a:t>
            </a:r>
            <a:endParaRPr b="0" lang="en-US" sz="25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6 - 8 </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Children of the World Park</a:t>
            </a:r>
            <a:endParaRPr b="0" lang="en-US" sz="2500" spc="-1" strike="noStrike">
              <a:solidFill>
                <a:srgbClr val="000000"/>
              </a:solidFill>
              <a:latin typeface="Lucida Sans Unicode"/>
            </a:endParaRPr>
          </a:p>
        </p:txBody>
      </p:sp>
      <p:pic>
        <p:nvPicPr>
          <p:cNvPr id="386" name="Rectangle 2" descr=""/>
          <p:cNvPicPr/>
          <p:nvPr/>
        </p:nvPicPr>
        <p:blipFill>
          <a:blip r:embed="rId1"/>
          <a:stretch/>
        </p:blipFill>
        <p:spPr>
          <a:xfrm>
            <a:off x="201600" y="274680"/>
            <a:ext cx="8485200" cy="124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08168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eachers will pick up their classes from the cafeteria at 8:15 a.m. (KG-2), and from the court at 8:30 a.m. (3-5 grade). Middle School students will go upstairs at 8:30 a.m.</a:t>
            </a: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Students reporting after their designated time, must go to the main office to obtain a late pass. PARENTS MUST ACCOMPANY STUDENTS IN GRADES PK-1.</a:t>
            </a: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8" name="Rectangle 2" descr=""/>
          <p:cNvPicPr/>
          <p:nvPr/>
        </p:nvPicPr>
        <p:blipFill>
          <a:blip r:embed="rId1"/>
          <a:stretch/>
        </p:blipFill>
        <p:spPr>
          <a:xfrm>
            <a:off x="201600" y="274680"/>
            <a:ext cx="8485200" cy="1243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294920"/>
            <a:ext cx="8229600" cy="507204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Please do not enter inside any of the school’s parking lots to drop off/pick up your children. </a:t>
            </a:r>
            <a:r>
              <a:rPr b="0" lang="en-US" sz="2800" spc="-1" strike="noStrike">
                <a:solidFill>
                  <a:srgbClr val="ff0000"/>
                </a:solidFill>
                <a:latin typeface="Comic Sans MS"/>
              </a:rPr>
              <a:t>Parent/Visitors parking lot is located behind the gym.</a:t>
            </a:r>
            <a:endParaRPr b="0" lang="en-US" sz="28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Safe Drop Zones: Drexel Avenue Circle</a:t>
            </a:r>
            <a:endParaRPr b="0" lang="en-US" sz="2800" spc="-1" strike="noStrike">
              <a:solidFill>
                <a:srgbClr val="000000"/>
              </a:solidFill>
              <a:latin typeface="Lucida Sans Unicode"/>
            </a:endParaRPr>
          </a:p>
          <a:p>
            <a:pPr lvl="1" marL="620640" indent="-228600">
              <a:lnSpc>
                <a:spcPct val="100000"/>
              </a:lnSpc>
              <a:spcBef>
                <a:spcPts val="326"/>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ennsylvania Avenue</a:t>
            </a:r>
            <a:endParaRPr b="0" lang="en-US" sz="2800" spc="-1" strike="noStrike">
              <a:solidFill>
                <a:srgbClr val="000000"/>
              </a:solidFill>
              <a:latin typeface="Lucida Sans Unicode"/>
            </a:endParaRPr>
          </a:p>
          <a:p>
            <a:pPr lvl="1" marL="620640" indent="-228600">
              <a:lnSpc>
                <a:spcPct val="100000"/>
              </a:lnSpc>
              <a:spcBef>
                <a:spcPts val="326"/>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ashington Avenue, if you are walking or riding a bicycle. </a:t>
            </a:r>
            <a:endParaRPr b="0" lang="en-US" sz="28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or the safety of our students please exit the school once you have dropped off/picked up your children. </a:t>
            </a:r>
            <a:endParaRPr b="0" lang="en-US" sz="2800" spc="-1" strike="noStrike">
              <a:solidFill>
                <a:srgbClr val="000000"/>
              </a:solidFill>
              <a:latin typeface="Lucida Sans Unicode"/>
            </a:endParaRPr>
          </a:p>
        </p:txBody>
      </p:sp>
      <p:pic>
        <p:nvPicPr>
          <p:cNvPr id="390" name="Title 2" descr=""/>
          <p:cNvPicPr/>
          <p:nvPr/>
        </p:nvPicPr>
        <p:blipFill>
          <a:blip r:embed="rId1"/>
          <a:stretch/>
        </p:blipFill>
        <p:spPr>
          <a:xfrm>
            <a:off x="231840" y="122400"/>
            <a:ext cx="8454960" cy="157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udents who ride bicycles and/or scooters to school must park and secure them in the bicycle racks provided near the cafeteria or near Pennsylvania Avenue.</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nder no circumstances should bicycles and/or scooters be secured/chained to the perimeter fences, street signs, parking lot signage, nor taken into the classrooms due to safety to life issues.</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392" name="Rectangle 2" descr=""/>
          <p:cNvPicPr/>
          <p:nvPr/>
        </p:nvPicPr>
        <p:blipFill>
          <a:blip r:embed="rId1"/>
          <a:stretch/>
        </p:blipFill>
        <p:spPr>
          <a:xfrm>
            <a:off x="201600" y="274680"/>
            <a:ext cx="8485200" cy="1243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38624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udents who ride bicycles and/or scooters to school must park and secure them in the bicycle racks provided near the cafeteria or near Pennsylvania Avenue.</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nder no circumstances should bicycles and/or scooters be secured/chained to the perimeter fences, street signs, parking lot signage, nor taken into the classrooms due to safety to life issues.</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394" name="Rectangle 2" descr=""/>
          <p:cNvPicPr/>
          <p:nvPr/>
        </p:nvPicPr>
        <p:blipFill>
          <a:blip r:embed="rId1"/>
          <a:stretch/>
        </p:blipFill>
        <p:spPr>
          <a:xfrm>
            <a:off x="201600" y="274680"/>
            <a:ext cx="8485200" cy="124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3:52:58Z</dcterms:created>
  <dc:creator>MDCPS</dc:creator>
  <dc:description/>
  <dc:language>en-US</dc:language>
  <cp:lastModifiedBy>Pearson, Phillip N.</cp:lastModifiedBy>
  <dcterms:modified xsi:type="dcterms:W3CDTF">2015-08-20T03:48:29Z</dcterms:modified>
  <cp:revision>44</cp:revision>
  <dc:subject/>
  <dc:title>Slide 1</dc:title>
</cp:coreProperties>
</file>